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2133720" y="974880"/>
            <a:ext cx="4952880" cy="32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d30a05"/>
                </a:solidFill>
                <a:effectLst>
                  <a:outerShdw dist="17819" dir="2700000" blurRad="0" rotWithShape="0">
                    <a:srgbClr val="000066">
                      <a:alpha val="50000"/>
                    </a:srgbClr>
                  </a:outerShdw>
                </a:effectLst>
                <a:latin typeface="Insula"/>
              </a:rPr>
              <a:t>Reconstruction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d30a05"/>
              </a:solidFill>
              <a:effectLst>
                <a:outerShdw dist="17819" dir="2700000" blurRad="0" rotWithShape="0">
                  <a:srgbClr val="000066">
                    <a:alpha val="50000"/>
                  </a:srgbClr>
                </a:outerShdw>
              </a:effectLst>
              <a:latin typeface="Insula"/>
              <a:ea typeface="Insul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d30a05"/>
                </a:solidFill>
                <a:effectLst>
                  <a:outerShdw dist="17819" dir="2700000" blurRad="0" rotWithShape="0">
                    <a:srgbClr val="000066">
                      <a:alpha val="50000"/>
                    </a:srgbClr>
                  </a:outerShdw>
                </a:effectLst>
                <a:latin typeface="Insula"/>
              </a:rPr>
              <a:t>(1865-1876)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d30a05"/>
              </a:solidFill>
              <a:effectLst>
                <a:outerShdw dist="17819" dir="2700000" blurRad="0" rotWithShape="0">
                  <a:srgbClr val="000066">
                    <a:alpha val="50000"/>
                  </a:srgbClr>
                </a:outerShdw>
              </a:effectLst>
              <a:latin typeface="Insula"/>
              <a:ea typeface="Insula"/>
            </a:endParaRPr>
          </a:p>
        </p:txBody>
      </p:sp>
      <p:sp>
        <p:nvSpPr>
          <p:cNvPr id="41" name=""/>
          <p:cNvSpPr/>
          <p:nvPr/>
        </p:nvSpPr>
        <p:spPr>
          <a:xfrm>
            <a:off x="1828800" y="5181480"/>
            <a:ext cx="5410080" cy="459720"/>
          </a:xfrm>
          <a:prstGeom prst="rect">
            <a:avLst/>
          </a:prstGeom>
          <a:noFill/>
          <a:ln w="9360">
            <a:solidFill>
              <a:srgbClr val="d30a05"/>
            </a:solidFill>
            <a:miter/>
          </a:ln>
          <a:effectLst>
            <a:outerShdw dist="17819" dir="2700000" blurRad="0" rotWithShape="0">
              <a:srgbClr val="d30a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Optimum"/>
              </a:rPr>
              <a:t>Chapter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85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385" fill="hold"/>
                                        <p:tgtEl>
                                          <p:spTgt spid="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385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385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nsula"/>
              </a:rPr>
              <a:t>Reconstruc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Insula"/>
              </a:rPr>
              <a:t>Pages 568-57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Insu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nsula"/>
              </a:rPr>
              <a:t>Major Issues with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Insu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nsul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Insula"/>
              </a:rPr>
              <a:t>Freedom for Freedm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nsul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nsula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nsul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nsula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nsul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nsula"/>
              </a:rPr>
              <a:t>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nsul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nsula"/>
              </a:rPr>
              <a:t>Black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Insu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nsula"/>
              </a:rPr>
              <a:t>Presidential Re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nsul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nsula"/>
              </a:rPr>
              <a:t>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nsula"/>
              </a:rPr>
              <a:t>Congressional Reconstruction &amp; Legacy of Reconstr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Insula"/>
              </a:rPr>
              <a:t>Pages 575-5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Insu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nsula"/>
              </a:rPr>
              <a:t>Radical Plans for Read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Insu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nsula"/>
              </a:rPr>
              <a:t>Impeaching the Presid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Insu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nsula"/>
              </a:rPr>
              <a:t>Election of 18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Insu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nsula"/>
              </a:rPr>
              <a:t>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Insula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Insula"/>
              </a:rPr>
              <a:t> Amend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Insu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nsula"/>
              </a:rPr>
              <a:t>Sharecr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Insu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nsula"/>
              </a:rPr>
              <a:t>African American Poli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nsula"/>
              </a:rPr>
              <a:t>End of Reconstruc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Insula"/>
              </a:rPr>
              <a:t>Pages 585-59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Insu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nsula"/>
              </a:rPr>
              <a:t>Political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Insu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nsula"/>
              </a:rPr>
              <a:t>Role of the K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Insu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nsula"/>
              </a:rPr>
              <a:t>Legal Challenges to 1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Insula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Insula"/>
              </a:rPr>
              <a:t>/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Insula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Insula"/>
              </a:rPr>
              <a:t> Amend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Insu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nsula"/>
              </a:rPr>
              <a:t>Election of 18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Insu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nsula"/>
              </a:rPr>
              <a:t>Panic of 18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Insu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nsula"/>
              </a:rPr>
              <a:t>Election of 18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Insu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nsula"/>
              </a:rPr>
              <a:t>End of Reconstr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2T21:30:52Z</dcterms:created>
  <dc:creator>Susan M. Pojer</dc:creator>
  <dc:description/>
  <dc:language>en-US</dc:language>
  <cp:lastModifiedBy>School District U46</cp:lastModifiedBy>
  <dcterms:modified xsi:type="dcterms:W3CDTF">2009-12-12T21:31:33Z</dcterms:modified>
  <cp:revision>189</cp:revision>
  <dc:subject/>
  <dc:title>Reconstruction (1865-1876)</dc:title>
</cp:coreProperties>
</file>